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28.wmf" ContentType="image/x-wmf"/>
  <Override PartName="/ppt/media/image30.png" ContentType="image/png"/>
  <Override PartName="/ppt/media/image13.wmf" ContentType="image/x-wmf"/>
  <Override PartName="/ppt/media/image10.wmf" ContentType="image/x-wmf"/>
  <Override PartName="/ppt/media/image15.wmf" ContentType="image/x-wmf"/>
  <Override PartName="/ppt/media/image7.png" ContentType="image/png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9F4-B60B-4661-9F7E-E1E5C1D8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188-7EDF-4E76-81D2-3FD19C19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DE3-09C2-49F0-82FA-EF77B9A3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841-DDE9-4592-B55C-D336D861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030-BA46-4CF8-9115-27F4B2F5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B40-0EFE-4C71-8FDE-004074AC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D152-FF9B-4816-BF4B-F240D1DF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B63-448A-4177-A848-7C6FF2B6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5F4-2460-4E11-B906-E397A7C2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792-4952-4177-8EF0-DB676C3E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FE4C-BB9C-4659-B3F0-42F8C4ED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6A35-54C3-45BC-86CA-5C7FE0C0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F521-8E3B-44B9-80F6-33BEFFDBC573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E502-E8CA-4401-9D51-D3A1AC0ACA3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</a:t>
            </a:r>
            <a:r>
              <a:rPr b="1" lang="en-US" sz="5000" spc="-1" strike="noStrike">
                <a:solidFill>
                  <a:srgbClr val="006633"/>
                </a:solidFill>
                <a:latin typeface="Arial"/>
              </a:rPr>
              <a:t>9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640" y="2997360"/>
            <a:ext cx="8282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Законы распределения времени наработки до отказа, наиболее часто используемые в теории надежност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4F4-AC23-4774-BFB8-DFF3DFD71D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гласно закону больших чисел распределение всегда подчиняется нормальному закону, если на изменение случайной величины оказывают влияние многие примерно равнозначные факто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ормальному распределению подчиняются ошибки измерения деталей, отклонения дальности полета снарядов и т.п. При большом времени работы элемента и наличии восстановления среднее число отказов имеет асимптотически нормальное распредел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E09-BE7F-41C0-95AF-AB0B759656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475560"/>
            <a:ext cx="820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нормального распределения функция надежности вычисляется по форм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58920" y="1268280"/>
          <a:ext cx="597708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268280"/>
                    <a:ext cx="597708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4000" y="2781360"/>
          <a:ext cx="3743280" cy="14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781360"/>
                    <a:ext cx="3743280" cy="14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4427640" y="32839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функция Лапласа, значения которой приведены в таблиц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4437000"/>
            <a:ext cx="84610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тим важное 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свой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ормального распределения: сумма независимых случайных величин, имеющих нормальное распределение, также распределена по нормальному закону. При этом параметры суммы выражаются через параметры слагаемых: математическое ожидание суммы равно сумме математических ожиданий, дисперсия суммы равна сумме дисперс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FA3-A8CE-4BBF-897A-2D96847101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Усеченное нормальное распределение</a:t>
            </a: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сеченное нормальное распредел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лучается из нормально­го при ограничении интервала изменения случайной величины на промежуток (0, +∞). Плотность распределения записывается так же, как для нормального распределения, но с коэффициентом пропорциональности 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700360" y="2637000"/>
          <a:ext cx="388764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637000"/>
                    <a:ext cx="38876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369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4164840"/>
            <a:ext cx="8353440" cy="15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еченное нормальное распределение зависит от двух параметров —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σ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начение случайной величины, соответствующее максимальному значению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f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азываемо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6600"/>
                </a:solidFill>
                <a:latin typeface="Arial"/>
              </a:rPr>
              <a:t>модо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реднее квадратическое отклонение. Коэффициен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ределяется из условия нормир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35280" y="5445000"/>
          <a:ext cx="165564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5445000"/>
                    <a:ext cx="1655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0" y="36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1080" y="5804640"/>
            <a:ext cx="887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к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292720" y="5533920"/>
          <a:ext cx="230364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5533920"/>
                    <a:ext cx="23036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37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422-8CD1-4135-8DEB-6AB68F27B8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тематическое ожидание и среднее квадратическое отклонение усеченного нормального распределения определяются через параметры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σ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 формул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03280" y="2492280"/>
          <a:ext cx="2737080" cy="7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92280"/>
                    <a:ext cx="27370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500720" y="2276640"/>
          <a:ext cx="3600360" cy="132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276640"/>
                    <a:ext cx="3600360" cy="13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988440" y="2604600"/>
            <a:ext cx="8146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06080" y="3246120"/>
            <a:ext cx="5374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12560" y="3992040"/>
            <a:ext cx="2203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70840" y="429156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где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771640" y="3645000"/>
          <a:ext cx="2664000" cy="155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3645000"/>
                    <a:ext cx="26640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E24-0347-483B-B938-F378808372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логарифмически-нормальное распределение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123200"/>
            <a:ext cx="7777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логарифмически-нормальном распределен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логарифм случайной величины подчиняется нормальному закону с плотность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411280" y="2421000"/>
          <a:ext cx="396108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421000"/>
                    <a:ext cx="396108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116000" y="3497040"/>
            <a:ext cx="5557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араметры рас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19280" y="5516640"/>
          <a:ext cx="187308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5516640"/>
                    <a:ext cx="18730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924360" y="5445000"/>
          <a:ext cx="295272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5445000"/>
                    <a:ext cx="2952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95280" y="4715280"/>
            <a:ext cx="8466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матическое ожидание и среднее квадратическое отклонение определяются в соответствии с формулами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4320" y="3566880"/>
            <a:ext cx="2599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CE2-CCA7-45C0-8BF8-96C1E5B7A0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9640" y="475560"/>
            <a:ext cx="8183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тность логарифмически-нормального распределения описывается форму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24000" y="1197000"/>
          <a:ext cx="417672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197000"/>
                    <a:ext cx="41767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982880" y="2420280"/>
            <a:ext cx="3695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 рас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835280" y="2852640"/>
            <a:ext cx="5400720" cy="32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2EF-D00A-4A89-960F-F6B8970CA0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33"/>
                </a:solidFill>
                <a:latin typeface="Garamond"/>
              </a:rPr>
              <a:t>Распределение Вейбулла</a:t>
            </a: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451440"/>
            <a:ext cx="766764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Вейбул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вляется достаточно универсальным, благодаря возможности варьирования двух его параметров. Оно характеризуется плотностью распределения вероят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230480" y="251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3240000" cy="118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-1230480" y="3048120"/>
          <a:ext cx="182880" cy="487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763640" y="3140640"/>
            <a:ext cx="57960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α — параметр формы; β — параметр масшта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115-B1A9-4D1C-9198-CC9CD4B74B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755640" y="1628640"/>
          <a:ext cx="259236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25923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708360" y="1484280"/>
          <a:ext cx="4969080" cy="63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1484280"/>
                    <a:ext cx="49690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859280" y="2205000"/>
          <a:ext cx="324000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2205000"/>
                    <a:ext cx="32400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84360" y="619560"/>
            <a:ext cx="8208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матическое ожидание и среднее квадратическое отклонение выражаются через параметры α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β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01240" y="2707200"/>
            <a:ext cx="3271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Г — гамма-функция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3645000"/>
            <a:ext cx="84247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ниверсальность распределения Вейбулла объясняется следу­ющим: при α = 1 распределение превращается в экспоненциальное; при α &lt; 1 функции плотности и интенсивности отказов убывающие; при α &gt; 1 интенсивность отказов возрастающая; при α = 2 функц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λ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линейная и распределение Вейбулла превращается в распределение Рэлея с плот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348000" y="5229360"/>
          <a:ext cx="237636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0" y="5229360"/>
                    <a:ext cx="23763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79280" y="6307920"/>
            <a:ext cx="820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α = 3,3 распределение Вейбулла близко к нормаль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C83-1F3F-418F-836E-1006FD03C0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419640" y="3213000"/>
          <a:ext cx="201600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3213000"/>
                    <a:ext cx="20160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012000" y="3357720"/>
          <a:ext cx="2447640" cy="104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3357720"/>
                    <a:ext cx="244764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55640" y="3213000"/>
          <a:ext cx="2016000" cy="118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213000"/>
                    <a:ext cx="2016000" cy="11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11280" y="474840"/>
            <a:ext cx="806436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яду с логарифмически-нормальным распределением, распределение Вейбулла хорошо описывает наработку деталей по усталостным разрушениям, наработку до отказа подшипников, а также позволяет оценивать надежность деталей и узлов машин, в частности автомобиле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исимости между показателями надежности в случае распределения Вейбулла имеют вид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7D1-36EA-4282-B4FA-7E20DC764C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55640" y="952560"/>
            <a:ext cx="7777080" cy="391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324000" y="4869000"/>
          <a:ext cx="8820000" cy="1309680"/>
        </p:xfrm>
        <a:graphic>
          <a:graphicData uri="http://schemas.openxmlformats.org/drawingml/2006/table">
            <a:tbl>
              <a:tblPr/>
              <a:tblGrid>
                <a:gridCol w="88200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нсивность отказов для распределения Вейбулла при раз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аметрах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— 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m =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200 ч и σ = 100 ч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— при m = 200 ч и σ = 80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800" y="302688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200-792C-423B-975A-84B360BDCE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8920" y="907920"/>
            <a:ext cx="8589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арактеристика законов распред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оверительный интервал и доверительная вероят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D26-B108-4935-B02F-2A3B86C8FC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378760" cy="66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4CC-F234-4F6C-ADB5-72482B5449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50160" cy="664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F62-1D9C-4221-BAF6-FDF46275C9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277920"/>
            <a:ext cx="87138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2. 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Доверительный интервал и доверительная</a:t>
            </a:r>
            <a:br>
              <a:rPr sz="2400"/>
            </a:b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вероятность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ценка неизвестного параметр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дним числом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как это было сказано ранее, называется «точечной». В ряде случаев требуется не только найти для параметр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одходящее численное значение, но и оценить его точность и надежность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ебуется знать, к каким ошибкам может привести замена параметр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го точечной оценкой  и с какой степенью уверенности можно ожидать, что эти ошибки не выйдут за известные пределы. Такого рода задачи особенно актуальны при малом числе наблюдений, когда точечная оценк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 значительной мере случайна и приближенная замен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 может привести к серьезным ошибкам. Для оценки точности и надежности параметр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спользуют так называемый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доверительный интервал</a:t>
            </a: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 и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 доверительную вероятность.</a:t>
            </a: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458-3076-4CEA-9ECD-71BD6EFD22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Экспоненциальное, или показательное распределение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кспоненциальным законом распределения можно аппроксимировать время безотказной работы большого числа элемент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первую очередь это относится к элементам радиоэлектронной аппаратуры, а также к машинам, эксплуатируемым в период после окончания приработки и до существенного проявления постепенных отказов. Экспоненциальное распределение применяется в областях, связанных с «временем жизни»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медицине — продолжительность жизни больных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надежности — продолжительность безотказной работы систем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психологии — время, затраченное на выполнение тестовых задач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но используется в задачах массового обслуживания, в которых речь идет об интервалах времени между телефонными звонками, или между моментами поступления техники в ремонтную мастерскую, или между моментами обращения клиент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0D6-6429-48E7-88A3-104A3F93B2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Ф(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) = 1 – е  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Arial"/>
              </a:rPr>
              <a:t>λ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при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≥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распределение имеет один параметр , где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ru-RU" sz="30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— средняя наработка элемента до отказа. Таким образом, параметр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характеризует число отказов элемента в единицу времени и называется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интенсивностью отказо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он имеет размерность времени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7A1-5BB7-4E8F-AF73-B5B0F8972A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35344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тность экспоненциального распределения задается как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λe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λ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надежност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P(t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λe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λ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 вероятность безотказной работы за врем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данном случае интенсивность отказов есть величина постоянная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λ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)=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Функция ресурс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ʌ(t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экспоненциального распределения является линейной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ʌ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)=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3600360" cy="296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675A-AFF4-49B1-BC21-E053FF6369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гамма-процентного ресурса определяется по форму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916360" y="2276640"/>
          <a:ext cx="345600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276640"/>
                    <a:ext cx="34560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F3C-401A-4DC5-B8E6-249E40C940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споненциальное распределение выделяется среди других распределений свойством «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отсутствия памя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— время службы некоторого изделия с экспоненциальным законом распределения. «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Отсутствие памя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 означает, что изделие, проработавшее время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имеет такое же распределение, что и новое, только что начавшее работу. Математически это свойство выражается в виде следующего равенств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(Х &gt;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) = Р(Х &gt; 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любых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, х ≥ 1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нное свойство как бы исключает износ и старение издел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01D-4950-4E72-A894-43633EF671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Числовые характеристики экспоненциального распределения выражаются через его параметр: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"/>
          <p:cNvSpPr/>
          <p:nvPr/>
        </p:nvSpPr>
        <p:spPr>
          <a:xfrm>
            <a:off x="610200" y="1483560"/>
            <a:ext cx="621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ческое ожида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 = 1/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исперс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D(X)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04000" y="1341360"/>
          <a:ext cx="420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1341360"/>
                    <a:ext cx="420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6160" y="2491560"/>
            <a:ext cx="41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е квадратическое откло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003640" y="2205000"/>
          <a:ext cx="151164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205000"/>
                    <a:ext cx="15116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977040" y="5156640"/>
            <a:ext cx="2660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λ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51280" y="5013360"/>
          <a:ext cx="863640" cy="82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5013360"/>
                    <a:ext cx="86364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037840" y="5156640"/>
            <a:ext cx="142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λ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3715920"/>
            <a:ext cx="7920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экспоненциальном законе отказов, между показателями надежности невосстанавливаемых систем существуют следующ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551-87F2-4ECF-BEFA-AB990AB6CF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33"/>
                </a:solidFill>
                <a:latin typeface="Garamond"/>
              </a:rPr>
              <a:t>Нормальное распределение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196280"/>
            <a:ext cx="846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рмальное распреде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аспределение Гаусса) определяется плот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42920" y="2133720"/>
          <a:ext cx="35290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133720"/>
                    <a:ext cx="35290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643280" y="2491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31474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ависит от двух параметров —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е являются соответственно математическим ожиданием и средним квадратическим отклонением времени безотказной работы эле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340000" y="4064040"/>
            <a:ext cx="4103640" cy="27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3BE-8A6F-499A-ABAA-886E028198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RIS</cp:lastModifiedBy>
  <dcterms:modified xsi:type="dcterms:W3CDTF">2013-03-11T05:55:50Z</dcterms:modified>
  <cp:revision>32</cp:revision>
  <dc:subject/>
  <dc:title>Лекция  № 11 </dc:title>
</cp:coreProperties>
</file>